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7291-19D0-410F-BC4E-CE1F78FAB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8E9C-C8B1-4B95-9B86-B6F926B8A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ED44-A5C7-4CA7-B02B-B5DEBF4AA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A952-7089-42E1-9A5D-F0CC96A9C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E9F5-26C7-4157-9D7D-CF9AF191F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48C4-E41D-426E-A090-D9ECD3053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C093-4B23-44AF-A3DB-E721FDFA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8020-8A03-48DC-8993-3922124AB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F8B8-57A6-4773-B58C-C5B98C2F5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6486-A1B7-4442-80AA-A85CADF4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8699-5261-4947-B9AC-7D683642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7F1F-B3AD-4B95-B25F-EC8B60CD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C9FB0-E5D9-4C2A-B3F4-C86CDFD408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50:24Z</dcterms:modified>
  <cp:revision>5</cp:revision>
  <dc:subject/>
  <dc:title>Slide 1</dc:title>
</cp:coreProperties>
</file>